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1.wmf" ContentType="image/x-wmf"/>
  <Override PartName="/ppt/media/image7.png" ContentType="image/png"/>
  <Override PartName="/ppt/media/image1.jpeg" ContentType="image/jpeg"/>
  <Override PartName="/ppt/media/image12.wmf" ContentType="image/x-wmf"/>
  <Override PartName="/ppt/media/image4.png" ContentType="image/png"/>
  <Override PartName="/ppt/media/image6.jpeg" ContentType="image/jpeg"/>
  <Override PartName="/ppt/media/image5.wmf" ContentType="image/x-wmf"/>
  <Override PartName="/ppt/media/image10.png" ContentType="image/png"/>
  <Override PartName="/ppt/media/image3.jpeg" ContentType="image/jpeg"/>
  <Override PartName="/ppt/media/image15.png" ContentType="image/png"/>
  <Override PartName="/ppt/media/image27.wmf" ContentType="image/x-wmf"/>
  <Override PartName="/ppt/media/image16.png" ContentType="image/png"/>
  <Override PartName="/ppt/media/image26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png" ContentType="image/png"/>
  <Override PartName="/ppt/media/image18.wmf" ContentType="image/x-wmf"/>
  <Override PartName="/ppt/media/image20.wmf" ContentType="image/x-wmf"/>
  <Override PartName="/ppt/media/image17.wmf" ContentType="image/x-wmf"/>
  <Override PartName="/ppt/media/image25.wmf" ContentType="image/x-wmf"/>
  <Override PartName="/ppt/media/image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83736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557000"/>
            <a:ext cx="72010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228240" y="4113360"/>
            <a:ext cx="72010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Garamon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240" y="83736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240" y="1557000"/>
            <a:ext cx="35139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18240" y="1557000"/>
            <a:ext cx="35139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Garamond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28240" y="4113360"/>
            <a:ext cx="35139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Garamond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3918240" y="4113360"/>
            <a:ext cx="35139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Garamon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240" y="83736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240" y="1557000"/>
            <a:ext cx="231840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662920" y="1557000"/>
            <a:ext cx="231840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97600" y="1557000"/>
            <a:ext cx="231840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Garamond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28240" y="4113360"/>
            <a:ext cx="231840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Garamond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2662920" y="4113360"/>
            <a:ext cx="231840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Garamond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097600" y="4113360"/>
            <a:ext cx="231840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Garamond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240" y="83736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228240" y="1557000"/>
            <a:ext cx="7201080" cy="48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240" y="83736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28240" y="1557000"/>
            <a:ext cx="72010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Garamond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240" y="83736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28240" y="1557000"/>
            <a:ext cx="35139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Garamond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918240" y="1557000"/>
            <a:ext cx="35139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Garamond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240" y="83736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228240" y="904680"/>
            <a:ext cx="655308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240" y="83736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240" y="1557000"/>
            <a:ext cx="35139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Garamond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918240" y="1557000"/>
            <a:ext cx="35139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Garamond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228240" y="4113360"/>
            <a:ext cx="35139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Garamon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28240" y="83736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228240" y="1557000"/>
            <a:ext cx="7201080" cy="48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240" y="83736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240" y="1557000"/>
            <a:ext cx="35139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Garamond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918240" y="1557000"/>
            <a:ext cx="35139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Garamond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918240" y="4113360"/>
            <a:ext cx="35139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Garamond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83736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240" y="1557000"/>
            <a:ext cx="35139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Garamond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918240" y="1557000"/>
            <a:ext cx="35139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Garamond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240" y="4113360"/>
            <a:ext cx="72010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Garamond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" y="83736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240" y="1557000"/>
            <a:ext cx="72010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Garamond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228240" y="4113360"/>
            <a:ext cx="72010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Garamond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240" y="83736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240" y="1557000"/>
            <a:ext cx="35139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Garamond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918240" y="1557000"/>
            <a:ext cx="35139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Garamond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28240" y="4113360"/>
            <a:ext cx="35139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Garamond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3918240" y="4113360"/>
            <a:ext cx="35139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Garamond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83736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240" y="1557000"/>
            <a:ext cx="231840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Garamon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662920" y="1557000"/>
            <a:ext cx="231840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Garamond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097600" y="1557000"/>
            <a:ext cx="231840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Garamond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228240" y="4113360"/>
            <a:ext cx="231840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Garamond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2662920" y="4113360"/>
            <a:ext cx="231840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Garamond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097600" y="4113360"/>
            <a:ext cx="231840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Garamond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7072-E1AD-4AEC-A2BC-BE1A081FF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240" y="83736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228240" y="1557000"/>
            <a:ext cx="7201080" cy="48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8361-FA45-491A-81FC-6FE41455D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240" y="83736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240" y="1557000"/>
            <a:ext cx="72010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A33C-40B7-4694-AD8F-4FE48F01C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240" y="83736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240" y="1557000"/>
            <a:ext cx="35139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918240" y="1557000"/>
            <a:ext cx="35139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2F63-B558-475C-9CA9-FA05760AF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240" y="83736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3DE3-4511-40D3-9AFA-E234A755F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28240" y="83736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228240" y="1557000"/>
            <a:ext cx="72010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Garamond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228240" y="904680"/>
            <a:ext cx="655308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1920-B3D5-43B2-AD1F-021C54226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240" y="83736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240" y="1557000"/>
            <a:ext cx="35139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Garamond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918240" y="1557000"/>
            <a:ext cx="35139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Garamond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228240" y="4113360"/>
            <a:ext cx="35139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CA74-E29F-4DC1-8D27-010F7C8CC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240" y="83736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240" y="1557000"/>
            <a:ext cx="35139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Garamond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918240" y="1557000"/>
            <a:ext cx="35139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Garamond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918240" y="4113360"/>
            <a:ext cx="35139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7B43-C874-412D-9129-E7C942DF1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240" y="83736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240" y="1557000"/>
            <a:ext cx="35139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Garamond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918240" y="1557000"/>
            <a:ext cx="35139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Garamond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228240" y="4113360"/>
            <a:ext cx="72010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6ECB-A379-4BAF-AF73-B593375AC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240" y="83736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240" y="1557000"/>
            <a:ext cx="72010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228240" y="4113360"/>
            <a:ext cx="72010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35D2-2BE9-4C39-AFC0-5CAD1F489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240" y="83736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240" y="1557000"/>
            <a:ext cx="35139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Garamond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918240" y="1557000"/>
            <a:ext cx="35139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Garamond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228240" y="4113360"/>
            <a:ext cx="35139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Garamond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3918240" y="4113360"/>
            <a:ext cx="35139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F24B-8745-4A10-A748-F038637B0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240" y="83736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240" y="1557000"/>
            <a:ext cx="231840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Garamond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2662920" y="1557000"/>
            <a:ext cx="231840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Garamond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097600" y="1557000"/>
            <a:ext cx="231840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Garamond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228240" y="4113360"/>
            <a:ext cx="231840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Garamond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2662920" y="4113360"/>
            <a:ext cx="231840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Garamond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5097600" y="4113360"/>
            <a:ext cx="231840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8F47-DCA9-4A1F-AB9B-B9B7BB478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83736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240" y="1557000"/>
            <a:ext cx="35139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Garamond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3918240" y="1557000"/>
            <a:ext cx="35139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Garamon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240" y="83736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228240" y="904680"/>
            <a:ext cx="655308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240" y="83736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28240" y="1557000"/>
            <a:ext cx="35139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Garamond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918240" y="1557000"/>
            <a:ext cx="35139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Garamond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228240" y="4113360"/>
            <a:ext cx="35139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Garamon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83736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557000"/>
            <a:ext cx="351396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918240" y="1557000"/>
            <a:ext cx="35139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918240" y="4113360"/>
            <a:ext cx="35139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Garamon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83736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557000"/>
            <a:ext cx="35139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918240" y="1557000"/>
            <a:ext cx="351396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28240" y="4113360"/>
            <a:ext cx="7201080" cy="23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Garamon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240" y="904680"/>
            <a:ext cx="655308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1557000"/>
            <a:ext cx="72010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Garamond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Garamond"/>
            </a:endParaRPr>
          </a:p>
          <a:p>
            <a:pPr lvl="2" marL="1143000" indent="-228600">
              <a:spcBef>
                <a:spcPts val="700"/>
              </a:spcBef>
              <a:buClr>
                <a:srgbClr val="4d4d4d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Garamond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Garamond"/>
            </a:endParaRPr>
          </a:p>
          <a:p>
            <a:pPr lvl="3" marL="1600200" indent="-228600">
              <a:spcBef>
                <a:spcPts val="700"/>
              </a:spcBef>
              <a:buClr>
                <a:srgbClr val="4d4d4d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Garamond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Garamond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Garamond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Garamond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Garamond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Garamond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Garamond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3640" y="333360"/>
            <a:ext cx="6048360" cy="7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Garamond"/>
              </a:rPr>
              <a:t>Second Outline Level</a:t>
            </a:r>
            <a:endParaRPr b="1" lang="en-US" sz="2400" spc="-1" strike="noStrike">
              <a:solidFill>
                <a:srgbClr val="4d4d4d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4d4d4d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4d4d4d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4d4d4d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4d4d4d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4d4d4d"/>
              </a:buClr>
              <a:buFont typeface="Garamond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4d4d4d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4d4d4d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4d4d4d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4d4d4d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4d4d4d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7DDA3-5395-449B-819F-ECDE39CE05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hyperlink" Target="http://images.google.com/imgres?imgurl=http://www.ci.gardena.ca.us/residents/images/amtrak_logo.jpg&amp;imgrefurl=http://www.ci.gardena.ca.us/government/Transportation/publictransportation.asp&amp;h=144&amp;w=216&amp;sz=7&amp;hl=en&amp;start=2&amp;tbnid=9rJc1SfM5vtoUM:&amp;tbnh=71&amp;tbnw=107&amp;prev=/images%3Fq%3Damtrak%2Blogo%26gbv%3D2%26svnum%3D10%26hl%3Den" TargetMode="External"/><Relationship Id="rId5" Type="http://schemas.openxmlformats.org/officeDocument/2006/relationships/image" Target="../media/image6.jpeg"/><Relationship Id="rId6" Type="http://schemas.openxmlformats.org/officeDocument/2006/relationships/hyperlink" Target="http://www.njtransit.com/index.jsp" TargetMode="External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4.png"/><Relationship Id="rId4" Type="http://schemas.openxmlformats.org/officeDocument/2006/relationships/package" Target="../embeddings/oleObject2.xlsx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610840" cy="5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Tahoma"/>
              </a:rPr>
              <a:t>Developing Manhattan Office Spac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52280" y="838080"/>
            <a:ext cx="518184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8f8f8"/>
                </a:solidFill>
                <a:latin typeface="Garamond"/>
              </a:rPr>
              <a:t>Michael DiNapoli </a:t>
            </a:r>
            <a:r>
              <a:rPr b="1" lang="en-US" sz="2200" spc="-1" strike="noStrike">
                <a:solidFill>
                  <a:srgbClr val="f8f8f8"/>
                </a:solidFill>
                <a:latin typeface="Garamond"/>
                <a:ea typeface="Arial"/>
              </a:rPr>
              <a:t>● </a:t>
            </a:r>
            <a:r>
              <a:rPr b="1" lang="en-US" sz="2200" spc="-1" strike="noStrike">
                <a:solidFill>
                  <a:srgbClr val="f8f8f8"/>
                </a:solidFill>
                <a:latin typeface="Garamond"/>
              </a:rPr>
              <a:t>Sophia Hartch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8f8f8"/>
                </a:solidFill>
                <a:latin typeface="Garamond"/>
              </a:rPr>
              <a:t>Eric Lok </a:t>
            </a:r>
            <a:r>
              <a:rPr b="1" lang="en-US" sz="2200" spc="-1" strike="noStrike">
                <a:solidFill>
                  <a:srgbClr val="f8f8f8"/>
                </a:solidFill>
                <a:latin typeface="Garamond"/>
                <a:ea typeface="Arial"/>
              </a:rPr>
              <a:t>● </a:t>
            </a:r>
            <a:r>
              <a:rPr b="1" lang="en-US" sz="2200" spc="-1" strike="noStrike">
                <a:solidFill>
                  <a:srgbClr val="f8f8f8"/>
                </a:solidFill>
                <a:latin typeface="Garamond"/>
              </a:rPr>
              <a:t>Mayank Mohan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8f8f8"/>
                </a:solidFill>
                <a:latin typeface="Garamond"/>
              </a:rPr>
              <a:t>Hector Shibata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5715000"/>
            <a:ext cx="5181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8f8f8"/>
                </a:solidFill>
                <a:latin typeface="Garamond"/>
              </a:rPr>
              <a:t>Decision Models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8f8f8"/>
                </a:solidFill>
                <a:latin typeface="Garamond"/>
              </a:rPr>
              <a:t>Professor Juran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8f8f8"/>
                </a:solidFill>
                <a:latin typeface="Garamond"/>
              </a:rPr>
              <a:t>April 23, 2007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380880" y="1600200"/>
            <a:ext cx="8382240" cy="4732200"/>
          </a:xfrm>
          <a:prstGeom prst="rect">
            <a:avLst/>
          </a:prstGeom>
          <a:ln w="19080">
            <a:solidFill>
              <a:srgbClr val="808080"/>
            </a:solidFill>
            <a:miter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8240" y="904680"/>
            <a:ext cx="792468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rystal Ball Simulation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240" y="904680"/>
            <a:ext cx="655308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Forecasted Office Rent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380880" y="1676520"/>
          <a:ext cx="8305920" cy="4419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1676520"/>
                    <a:ext cx="8305920" cy="4419360"/>
                  </a:xfrm>
                  <a:prstGeom prst="rect">
                    <a:avLst/>
                  </a:prstGeom>
                  <a:ln w="1908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240" y="904680"/>
            <a:ext cx="655308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Space Devoted to Elevators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240" y="1557000"/>
            <a:ext cx="72010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Garamond"/>
              </a:rPr>
              <a:t>Each block of 20 floors requires an individual bank of 8 elevators</a:t>
            </a:r>
            <a:endParaRPr b="0" lang="en-US" sz="2800" spc="-1" strike="noStrike">
              <a:solidFill>
                <a:srgbClr val="4d4d4d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Garamond"/>
              </a:rPr>
              <a:t>As the building gets taller, more of the lower floors are </a:t>
            </a:r>
            <a:r>
              <a:rPr b="0" lang="en-US" sz="2800" spc="-1" strike="noStrike">
                <a:solidFill>
                  <a:srgbClr val="4d4d4d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4d4d4d"/>
                </a:solidFill>
                <a:latin typeface="Garamond"/>
              </a:rPr>
              <a:t>consumed by elevators,</a:t>
            </a:r>
            <a:endParaRPr b="0" lang="en-US" sz="2800" spc="-1" strike="noStrike">
              <a:solidFill>
                <a:srgbClr val="4d4d4d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4d4d4d"/>
                </a:solidFill>
                <a:latin typeface="Garamond"/>
              </a:rPr>
              <a:t>reducing rentable space</a:t>
            </a:r>
            <a:endParaRPr b="0" lang="en-US" sz="2800" spc="-1" strike="noStrike">
              <a:solidFill>
                <a:srgbClr val="4d4d4d"/>
              </a:solidFill>
              <a:latin typeface="Garamond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4383000" y="1219320"/>
            <a:ext cx="4601880" cy="5410080"/>
            <a:chOff x="4383000" y="1219320"/>
            <a:chExt cx="4601880" cy="5410080"/>
          </a:xfrm>
        </p:grpSpPr>
        <p:sp>
          <p:nvSpPr>
            <p:cNvPr id="164" name=""/>
            <p:cNvSpPr/>
            <p:nvPr/>
          </p:nvSpPr>
          <p:spPr>
            <a:xfrm>
              <a:off x="4383000" y="4821480"/>
              <a:ext cx="1308240" cy="180792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75757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018840" y="2995560"/>
              <a:ext cx="1335960" cy="36338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75757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688160" y="1219320"/>
              <a:ext cx="1296720" cy="54100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75757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944600" y="4821480"/>
              <a:ext cx="197640" cy="180792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705360" y="2995560"/>
              <a:ext cx="189720" cy="363384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432640" y="1219320"/>
              <a:ext cx="197280" cy="54100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507000" y="4821480"/>
              <a:ext cx="198000" cy="180792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043840" y="4821480"/>
              <a:ext cx="198720" cy="180792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242920" y="2995560"/>
              <a:ext cx="189720" cy="363384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28240" y="904680"/>
            <a:ext cx="655308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Evolutionary Solver Model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380880" y="1828800"/>
            <a:ext cx="84582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28240" y="904680"/>
            <a:ext cx="655308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Setting up the Model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28240" y="1557000"/>
            <a:ext cx="72010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Garamond"/>
              </a:rPr>
              <a:t>Constraints</a:t>
            </a:r>
            <a:endParaRPr b="0" lang="en-US" sz="2800" spc="-1" strike="noStrike">
              <a:solidFill>
                <a:srgbClr val="4d4d4d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4d4d4d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Garamond"/>
              </a:rPr>
              <a:t>Each new level between</a:t>
            </a:r>
            <a:endParaRPr b="1" lang="en-US" sz="2400" spc="-1" strike="noStrike">
              <a:solidFill>
                <a:srgbClr val="4d4d4d"/>
              </a:solidFill>
              <a:latin typeface="Garamond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4d4d4d"/>
                </a:solidFill>
                <a:latin typeface="Garamond"/>
              </a:rPr>
              <a:t>0-10 floors inclusive</a:t>
            </a:r>
            <a:endParaRPr b="1" lang="en-US" sz="2400" spc="-1" strike="noStrike">
              <a:solidFill>
                <a:srgbClr val="4d4d4d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4d4d4d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Garamond"/>
              </a:rPr>
              <a:t>Number of floors is an</a:t>
            </a:r>
            <a:endParaRPr b="1" lang="en-US" sz="2400" spc="-1" strike="noStrike">
              <a:solidFill>
                <a:srgbClr val="4d4d4d"/>
              </a:solidFill>
              <a:latin typeface="Garamond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4d4d4d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4d4d4d"/>
                </a:solidFill>
                <a:latin typeface="Garamond"/>
              </a:rPr>
              <a:t>integer</a:t>
            </a:r>
            <a:endParaRPr b="1" lang="en-US" sz="2400" spc="-1" strike="noStrike">
              <a:solidFill>
                <a:srgbClr val="4d4d4d"/>
              </a:solidFill>
              <a:latin typeface="Garamond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Garamond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4343400" y="1851120"/>
            <a:ext cx="4440240" cy="31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240" y="904680"/>
            <a:ext cx="655308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Using Penalties as Constraints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609480" y="1752480"/>
            <a:ext cx="784872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240" y="904680"/>
            <a:ext cx="655308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Example:  95 Floors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1066680" y="1752480"/>
            <a:ext cx="720108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28240" y="904680"/>
            <a:ext cx="655308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Optimal Solution:  74 Floors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304920" y="1905120"/>
          <a:ext cx="8534160" cy="38862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1905120"/>
                    <a:ext cx="853416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240" y="904680"/>
            <a:ext cx="655308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Number of Floors vs. Profits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28600" y="1827360"/>
          <a:ext cx="8686800" cy="4338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1827360"/>
                    <a:ext cx="8686800" cy="43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8" name=""/>
          <p:cNvSpPr/>
          <p:nvPr/>
        </p:nvSpPr>
        <p:spPr>
          <a:xfrm flipV="1" rot="978000">
            <a:off x="5867280" y="2590560"/>
            <a:ext cx="370080" cy="1371600"/>
          </a:xfrm>
          <a:prstGeom prst="downArrow">
            <a:avLst>
              <a:gd name="adj1" fmla="val 50000"/>
              <a:gd name="adj2" fmla="val 92656"/>
            </a:avLst>
          </a:prstGeom>
          <a:solidFill>
            <a:srgbClr val="3366ff"/>
          </a:soli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343400" y="4038480"/>
            <a:ext cx="3352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Garamond"/>
              </a:rPr>
              <a:t>Maximum Profit at 74 Floor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28240" y="904680"/>
            <a:ext cx="655308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Valuation Assumptions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228600" y="1600200"/>
            <a:ext cx="8686800" cy="48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240" y="904680"/>
            <a:ext cx="655308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Agenda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240" y="1557000"/>
            <a:ext cx="72010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Garamond"/>
              </a:rPr>
              <a:t>Land Selection</a:t>
            </a:r>
            <a:endParaRPr b="0" lang="en-US" sz="2400" spc="-1" strike="noStrike">
              <a:solidFill>
                <a:srgbClr val="4d4d4d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Garamond"/>
              </a:rPr>
              <a:t>Forecasting Rent</a:t>
            </a:r>
            <a:endParaRPr b="0" lang="en-US" sz="2400" spc="-1" strike="noStrike">
              <a:solidFill>
                <a:srgbClr val="4d4d4d"/>
              </a:solidFill>
              <a:latin typeface="Garamond"/>
            </a:endParaRPr>
          </a:p>
          <a:p>
            <a:pPr lvl="1" marL="743040" indent="-285840">
              <a:spcBef>
                <a:spcPts val="499"/>
              </a:spcBef>
              <a:buClr>
                <a:srgbClr val="4d4d4d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Garamond"/>
              </a:rPr>
              <a:t>Historical Data and Indicators</a:t>
            </a:r>
            <a:endParaRPr b="1" lang="en-US" sz="2000" spc="-1" strike="noStrike">
              <a:solidFill>
                <a:srgbClr val="4d4d4d"/>
              </a:solidFill>
              <a:latin typeface="Garamond"/>
            </a:endParaRPr>
          </a:p>
          <a:p>
            <a:pPr lvl="1" marL="743040" indent="-285840">
              <a:spcBef>
                <a:spcPts val="499"/>
              </a:spcBef>
              <a:buClr>
                <a:srgbClr val="4d4d4d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Garamond"/>
              </a:rPr>
              <a:t>Regression</a:t>
            </a:r>
            <a:endParaRPr b="1" lang="en-US" sz="2000" spc="-1" strike="noStrike">
              <a:solidFill>
                <a:srgbClr val="4d4d4d"/>
              </a:solidFill>
              <a:latin typeface="Garamond"/>
            </a:endParaRPr>
          </a:p>
          <a:p>
            <a:pPr lvl="1" marL="743040" indent="-285840">
              <a:spcBef>
                <a:spcPts val="499"/>
              </a:spcBef>
              <a:buClr>
                <a:srgbClr val="4d4d4d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Garamond"/>
              </a:rPr>
              <a:t>Crystal Ball</a:t>
            </a:r>
            <a:endParaRPr b="1" lang="en-US" sz="2000" spc="-1" strike="noStrike">
              <a:solidFill>
                <a:srgbClr val="4d4d4d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Garamond"/>
              </a:rPr>
              <a:t>Development Decisions</a:t>
            </a:r>
            <a:endParaRPr b="0" lang="en-US" sz="2400" spc="-1" strike="noStrike">
              <a:solidFill>
                <a:srgbClr val="4d4d4d"/>
              </a:solidFill>
              <a:latin typeface="Garamond"/>
            </a:endParaRPr>
          </a:p>
          <a:p>
            <a:pPr lvl="1" marL="743040" indent="-285840">
              <a:spcBef>
                <a:spcPts val="499"/>
              </a:spcBef>
              <a:buClr>
                <a:srgbClr val="4d4d4d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Garamond"/>
              </a:rPr>
              <a:t>Building Height</a:t>
            </a:r>
            <a:endParaRPr b="1" lang="en-US" sz="2000" spc="-1" strike="noStrike">
              <a:solidFill>
                <a:srgbClr val="4d4d4d"/>
              </a:solidFill>
              <a:latin typeface="Garamond"/>
            </a:endParaRPr>
          </a:p>
          <a:p>
            <a:pPr lvl="2" marL="1143000" indent="-228600">
              <a:spcBef>
                <a:spcPts val="499"/>
              </a:spcBef>
              <a:buClr>
                <a:srgbClr val="4d4d4d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Garamond"/>
              </a:rPr>
              <a:t>Evolutionary Solver</a:t>
            </a:r>
            <a:endParaRPr b="0" lang="en-US" sz="2000" spc="-1" strike="noStrike">
              <a:solidFill>
                <a:srgbClr val="4d4d4d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Garamond"/>
              </a:rPr>
              <a:t>Valuation</a:t>
            </a:r>
            <a:endParaRPr b="0" lang="en-US" sz="2400" spc="-1" strike="noStrike">
              <a:solidFill>
                <a:srgbClr val="4d4d4d"/>
              </a:solidFill>
              <a:latin typeface="Garamond"/>
            </a:endParaRPr>
          </a:p>
          <a:p>
            <a:pPr lvl="1" marL="743040" indent="-285840">
              <a:spcBef>
                <a:spcPts val="499"/>
              </a:spcBef>
              <a:buClr>
                <a:srgbClr val="4d4d4d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Garamond"/>
              </a:rPr>
              <a:t>Scenario Analysis</a:t>
            </a:r>
            <a:endParaRPr b="1" lang="en-US" sz="2000" spc="-1" strike="noStrike">
              <a:solidFill>
                <a:srgbClr val="4d4d4d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Garamond"/>
              </a:rPr>
              <a:t>Conclusion</a:t>
            </a:r>
            <a:endParaRPr b="0" lang="en-US" sz="2400" spc="-1" strike="noStrike">
              <a:solidFill>
                <a:srgbClr val="4d4d4d"/>
              </a:solidFill>
              <a:latin typeface="Garamond"/>
            </a:endParaRPr>
          </a:p>
          <a:p>
            <a:pPr lvl="1" marL="743040" indent="-285840">
              <a:spcBef>
                <a:spcPts val="499"/>
              </a:spcBef>
              <a:buClr>
                <a:srgbClr val="4d4d4d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Garamond"/>
              </a:rPr>
              <a:t>Develop or Not?</a:t>
            </a:r>
            <a:endParaRPr b="1" lang="en-US" sz="2000" spc="-1" strike="noStrike">
              <a:solidFill>
                <a:srgbClr val="4d4d4d"/>
              </a:solidFill>
              <a:latin typeface="Garamond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d4d4d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28240" y="904680"/>
            <a:ext cx="655308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Valuation Assumptions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228600" y="1523880"/>
            <a:ext cx="86868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240" y="904680"/>
            <a:ext cx="655308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Valuation Model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228600" y="1600200"/>
            <a:ext cx="8686800" cy="44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28240" y="904680"/>
            <a:ext cx="655308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NPV Scenario Analysis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990720" y="1557360"/>
            <a:ext cx="7024680" cy="48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28240" y="904680"/>
            <a:ext cx="655308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onclusion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28240" y="1557000"/>
            <a:ext cx="72010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d4d4d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Garamond"/>
              </a:rPr>
              <a:t>Key Learning</a:t>
            </a:r>
            <a:endParaRPr b="0" lang="en-US" sz="2800" spc="-1" strike="noStrike">
              <a:solidFill>
                <a:srgbClr val="4d4d4d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d4d4d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Garamond"/>
              </a:rPr>
              <a:t>Solver, Crystal Ball, Scenario Analysis and NPV calculations are handy tools with real-world applications (not just Decision Models assignments)</a:t>
            </a:r>
            <a:endParaRPr b="1" lang="en-US" sz="2400" spc="-1" strike="noStrike">
              <a:solidFill>
                <a:srgbClr val="4d4d4d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d4d4d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Garamond"/>
              </a:rPr>
              <a:t>Optimal Number of Floors </a:t>
            </a:r>
            <a:endParaRPr b="0" lang="en-US" sz="2800" spc="-1" strike="noStrike">
              <a:solidFill>
                <a:srgbClr val="4d4d4d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d4d4d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Garamond"/>
              </a:rPr>
              <a:t>Computed as of now</a:t>
            </a:r>
            <a:endParaRPr b="1" lang="en-US" sz="2400" spc="-1" strike="noStrike">
              <a:solidFill>
                <a:srgbClr val="4d4d4d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d4d4d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Garamond"/>
              </a:rPr>
              <a:t>This may change over time, leading to a different NPV and a possible change in decision</a:t>
            </a:r>
            <a:endParaRPr b="1" lang="en-US" sz="2400" spc="-1" strike="noStrike">
              <a:solidFill>
                <a:srgbClr val="4d4d4d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28240" y="904680"/>
            <a:ext cx="655308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Decision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28240" y="1557000"/>
            <a:ext cx="72010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Garamond"/>
              </a:rPr>
              <a:t>Based on the assumptions of</a:t>
            </a:r>
            <a:endParaRPr b="0" lang="en-US" sz="2800" spc="-1" strike="noStrike">
              <a:solidFill>
                <a:srgbClr val="4d4d4d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4d4d4d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Garamond"/>
              </a:rPr>
              <a:t>Discount Rate (WACC) = 10%</a:t>
            </a:r>
            <a:endParaRPr b="1" lang="en-US" sz="2400" spc="-1" strike="noStrike">
              <a:solidFill>
                <a:srgbClr val="4d4d4d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4d4d4d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Garamond"/>
              </a:rPr>
              <a:t>Terminal Value = 10 times value in 2016</a:t>
            </a:r>
            <a:endParaRPr b="1" lang="en-US" sz="2400" spc="-1" strike="noStrike">
              <a:solidFill>
                <a:srgbClr val="4d4d4d"/>
              </a:solidFill>
              <a:latin typeface="Garamond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Garamond"/>
              </a:rPr>
              <a:t>We get an NPV of -$98,117,253</a:t>
            </a:r>
            <a:endParaRPr b="0" lang="en-US" sz="2800" spc="-1" strike="noStrike">
              <a:solidFill>
                <a:srgbClr val="4d4d4d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Garamond"/>
              </a:rPr>
              <a:t>Hence, the project is a NO-GO</a:t>
            </a:r>
            <a:endParaRPr b="0" lang="en-US" sz="2800" spc="-1" strike="noStrike">
              <a:solidFill>
                <a:srgbClr val="4d4d4d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08000" y="44280"/>
            <a:ext cx="71280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Land Selection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908000" y="838080"/>
            <a:ext cx="71280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Garamond"/>
              </a:rPr>
              <a:t>Prime location</a:t>
            </a:r>
            <a:endParaRPr b="0" lang="en-US" sz="2800" spc="-1" strike="noStrike">
              <a:solidFill>
                <a:srgbClr val="4d4d4d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4d4d4d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Garamond"/>
              </a:rPr>
              <a:t>38-46 West 33</a:t>
            </a:r>
            <a:r>
              <a:rPr b="1" lang="en-US" sz="2400" spc="-1" strike="noStrike" baseline="30000">
                <a:solidFill>
                  <a:srgbClr val="4d4d4d"/>
                </a:solidFill>
                <a:latin typeface="Garamond"/>
              </a:rPr>
              <a:t>rd</a:t>
            </a:r>
            <a:r>
              <a:rPr b="1" lang="en-US" sz="2400" spc="-1" strike="noStrike">
                <a:solidFill>
                  <a:srgbClr val="4d4d4d"/>
                </a:solidFill>
                <a:latin typeface="Garamond"/>
              </a:rPr>
              <a:t> Street</a:t>
            </a:r>
            <a:endParaRPr b="1" lang="en-US" sz="2400" spc="-1" strike="noStrike">
              <a:solidFill>
                <a:srgbClr val="4d4d4d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4d4d4d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Garamond"/>
              </a:rPr>
              <a:t>Penn Plaza / Garment</a:t>
            </a:r>
            <a:endParaRPr b="1" lang="en-US" sz="2400" spc="-1" strike="noStrike">
              <a:solidFill>
                <a:srgbClr val="4d4d4d"/>
              </a:solidFill>
              <a:latin typeface="Garamond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4d4d4d"/>
                </a:solidFill>
                <a:latin typeface="Garamond"/>
              </a:rPr>
              <a:t>Center submarket</a:t>
            </a:r>
            <a:endParaRPr b="1" lang="en-US" sz="2400" spc="-1" strike="noStrike">
              <a:solidFill>
                <a:srgbClr val="4d4d4d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4d4d4d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Garamond"/>
              </a:rPr>
              <a:t>2 blocks from Penn</a:t>
            </a:r>
            <a:endParaRPr b="1" lang="en-US" sz="2400" spc="-1" strike="noStrike">
              <a:solidFill>
                <a:srgbClr val="4d4d4d"/>
              </a:solidFill>
              <a:latin typeface="Garamond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4d4d4d"/>
                </a:solidFill>
                <a:latin typeface="Garamond"/>
              </a:rPr>
              <a:t>Station</a:t>
            </a:r>
            <a:endParaRPr b="1" lang="en-US" sz="2400" spc="-1" strike="noStrike">
              <a:solidFill>
                <a:srgbClr val="4d4d4d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4d4d4d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Garamond"/>
              </a:rPr>
              <a:t>Convenient to several subway lines</a:t>
            </a:r>
            <a:endParaRPr b="1" lang="en-US" sz="2400" spc="-1" strike="noStrike">
              <a:solidFill>
                <a:srgbClr val="4d4d4d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Garamond"/>
              </a:rPr>
              <a:t>Site details</a:t>
            </a:r>
            <a:endParaRPr b="0" lang="en-US" sz="2800" spc="-1" strike="noStrike">
              <a:solidFill>
                <a:srgbClr val="4d4d4d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4d4d4d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Garamond"/>
              </a:rPr>
              <a:t>2.27 acres</a:t>
            </a:r>
            <a:endParaRPr b="1" lang="en-US" sz="2400" spc="-1" strike="noStrike">
              <a:solidFill>
                <a:srgbClr val="4d4d4d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4d4d4d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Garamond"/>
              </a:rPr>
              <a:t>Price: $31,500,000</a:t>
            </a:r>
            <a:endParaRPr b="1" lang="en-US" sz="2400" spc="-1" strike="noStrike">
              <a:solidFill>
                <a:srgbClr val="4d4d4d"/>
              </a:solidFill>
              <a:latin typeface="Garamond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Garamond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rcRect l="48758" t="41363" r="12594" b="24852"/>
          <a:stretch/>
        </p:blipFill>
        <p:spPr>
          <a:xfrm>
            <a:off x="5867280" y="1328760"/>
            <a:ext cx="3048120" cy="20001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7162920" y="4038480"/>
            <a:ext cx="1714320" cy="12574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257800" y="4114800"/>
            <a:ext cx="1600200" cy="10620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New Jersey Transit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867280" y="5543640"/>
            <a:ext cx="2514600" cy="78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904680"/>
            <a:ext cx="815328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Average Annual Office Rent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380880" y="1695600"/>
          <a:ext cx="8425080" cy="46288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1695600"/>
                    <a:ext cx="8425080" cy="4628880"/>
                  </a:xfrm>
                  <a:prstGeom prst="rect">
                    <a:avLst/>
                  </a:prstGeom>
                  <a:ln w="1908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240" y="904680"/>
            <a:ext cx="655308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Minitab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762120" y="2514600"/>
          <a:ext cx="7696080" cy="3746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2514600"/>
                    <a:ext cx="7696080" cy="37465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28240" y="1557000"/>
            <a:ext cx="720108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Garamond"/>
              </a:rPr>
              <a:t>Predicted rent in 2012, the year the building opens, is $57.48</a:t>
            </a:r>
            <a:endParaRPr b="0" lang="en-US" sz="2800" spc="-1" strike="noStrike">
              <a:solidFill>
                <a:srgbClr val="4d4d4d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228600" y="1650960"/>
            <a:ext cx="8610480" cy="3301920"/>
          </a:xfrm>
          <a:prstGeom prst="rect">
            <a:avLst/>
          </a:prstGeom>
          <a:ln w="19080">
            <a:solidFill>
              <a:srgbClr val="808080"/>
            </a:solidFill>
            <a:miter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240" y="904680"/>
            <a:ext cx="655308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Historical Data and Indicators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5562720" y="5105520"/>
            <a:ext cx="6094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095880" y="4724280"/>
            <a:ext cx="838440" cy="381240"/>
          </a:xfrm>
          <a:prstGeom prst="ellipse">
            <a:avLst/>
          </a:prstGeom>
          <a:noFill/>
          <a:ln w="284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52280" y="5334120"/>
            <a:ext cx="563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Coincident Economic Indicator has the highest correlation with rent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28240" y="904680"/>
            <a:ext cx="792468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oincident Economic Indicator (CEI)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920" y="1735200"/>
            <a:ext cx="518148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d4d4d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Garamond"/>
                <a:ea typeface="ＭＳ Ｐゴシック"/>
              </a:rPr>
              <a:t>Index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d4d4d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Garamond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4d4d4d"/>
                </a:solidFill>
                <a:latin typeface="Garamond"/>
                <a:ea typeface="ＭＳ Ｐゴシック"/>
              </a:rPr>
              <a:t>Federal Reserve Bank of New York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d4d4d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Garamond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4d4d4d"/>
                </a:solidFill>
                <a:latin typeface="Garamond"/>
                <a:ea typeface="ＭＳ Ｐゴシック"/>
              </a:rPr>
              <a:t>Tracks the current state of the </a:t>
            </a:r>
            <a:r>
              <a:rPr b="1" lang="en-US" sz="2400" spc="-1" strike="noStrike">
                <a:solidFill>
                  <a:srgbClr val="4d4d4d"/>
                </a:solidFill>
                <a:latin typeface="Garamond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4d4d4d"/>
                </a:solidFill>
                <a:latin typeface="Garamond"/>
                <a:ea typeface="ＭＳ Ｐゴシック"/>
              </a:rPr>
              <a:t>economy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d4d4d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Garamond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4d4d4d"/>
                </a:solidFill>
                <a:latin typeface="Garamond"/>
                <a:ea typeface="ＭＳ Ｐゴシック"/>
              </a:rPr>
              <a:t>Data includes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4d4d4d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Garamond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4d4d4d"/>
                </a:solidFill>
                <a:latin typeface="Garamond"/>
                <a:ea typeface="ＭＳ Ｐゴシック"/>
              </a:rPr>
              <a:t>Employmen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4d4d4d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Garamond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4d4d4d"/>
                </a:solidFill>
                <a:latin typeface="Garamond"/>
                <a:ea typeface="ＭＳ Ｐゴシック"/>
              </a:rPr>
              <a:t>Real earnings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4d4d4d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Garamond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4d4d4d"/>
                </a:solidFill>
                <a:latin typeface="Garamond"/>
                <a:ea typeface="ＭＳ Ｐゴシック"/>
              </a:rPr>
              <a:t>Unemployment rate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4d4d4d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Garamond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4d4d4d"/>
                </a:solidFill>
                <a:latin typeface="Garamond"/>
                <a:ea typeface="ＭＳ Ｐゴシック"/>
              </a:rPr>
              <a:t>Average weekly hours worked                   </a:t>
            </a:r>
            <a:r>
              <a:rPr b="1" lang="en-US" sz="2400" spc="-1" strike="noStrike">
                <a:solidFill>
                  <a:srgbClr val="4d4d4d"/>
                </a:solidFill>
                <a:latin typeface="Garamond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4d4d4d"/>
                </a:solidFill>
                <a:latin typeface="Garamond"/>
                <a:ea typeface="ＭＳ Ｐゴシック"/>
              </a:rPr>
              <a:t>(manufacturing)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5562720" y="2281320"/>
            <a:ext cx="3352680" cy="2747880"/>
            <a:chOff x="5562720" y="2281320"/>
            <a:chExt cx="3352680" cy="27478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5638680" y="2738520"/>
              <a:ext cx="3200400" cy="2290680"/>
            </a:xfrm>
            <a:prstGeom prst="rect">
              <a:avLst/>
            </a:prstGeom>
            <a:ln w="9360">
              <a:solidFill>
                <a:srgbClr val="808080"/>
              </a:solidFill>
              <a:miter/>
            </a:ln>
          </p:spPr>
        </p:pic>
        <p:pic>
          <p:nvPicPr>
            <p:cNvPr id="144" name="" descr=""/>
            <p:cNvPicPr/>
            <p:nvPr/>
          </p:nvPicPr>
          <p:blipFill>
            <a:blip r:embed="rId3"/>
            <a:srcRect l="0" t="0" r="27694" b="33790"/>
            <a:stretch/>
          </p:blipFill>
          <p:spPr>
            <a:xfrm>
              <a:off x="5562720" y="2281320"/>
              <a:ext cx="3352680" cy="428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904680"/>
            <a:ext cx="815328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EI and Average Annual Office Rent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80880" y="1695600"/>
          <a:ext cx="8352000" cy="47052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1695600"/>
                    <a:ext cx="8352000" cy="4705200"/>
                  </a:xfrm>
                  <a:prstGeom prst="rect">
                    <a:avLst/>
                  </a:prstGeom>
                  <a:ln w="1908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28600" y="904680"/>
            <a:ext cx="769608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Regression: CEI v. Avg. Office Rent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380880" y="1832040"/>
          <a:ext cx="3886200" cy="20350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1832040"/>
                    <a:ext cx="3886200" cy="203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228600" y="4118040"/>
          <a:ext cx="8534520" cy="911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8600" y="4118040"/>
                    <a:ext cx="8534520" cy="91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4191120" y="1828800"/>
            <a:ext cx="4572000" cy="77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4d4d4d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Garamond"/>
                <a:ea typeface="ＭＳ Ｐゴシック"/>
              </a:rPr>
              <a:t>R-Squared value of 63.8%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4d4d4d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4d4d4d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4d4d4d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Garamond"/>
                <a:ea typeface="ＭＳ Ｐゴシック"/>
              </a:rPr>
              <a:t>Very low P-value of   0.000354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6320" y="2666880"/>
            <a:ext cx="4114800" cy="381240"/>
          </a:xfrm>
          <a:prstGeom prst="ellipse">
            <a:avLst/>
          </a:prstGeom>
          <a:noFill/>
          <a:ln w="284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391520" y="3962520"/>
            <a:ext cx="1523880" cy="685800"/>
          </a:xfrm>
          <a:prstGeom prst="ellipse">
            <a:avLst/>
          </a:prstGeom>
          <a:noFill/>
          <a:ln w="284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1T16:08:50Z</dcterms:created>
  <dc:creator>Stern School of Business</dc:creator>
  <dc:description/>
  <dc:language>en-US</dc:language>
  <cp:lastModifiedBy>Michael L. DiNapoli</cp:lastModifiedBy>
  <dcterms:modified xsi:type="dcterms:W3CDTF">2007-04-23T12:20:02Z</dcterms:modified>
  <cp:revision>54</cp:revision>
  <dc:subject/>
  <dc:title>Name of presentation</dc:title>
</cp:coreProperties>
</file>